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39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1752480" y="6529320"/>
            <a:ext cx="7391520" cy="319320"/>
            <a:chOff x="1752480" y="6529320"/>
            <a:chExt cx="7391520" cy="319320"/>
          </a:xfrm>
        </p:grpSpPr>
        <p:sp>
          <p:nvSpPr>
            <p:cNvPr id="42" name=""/>
            <p:cNvSpPr/>
            <p:nvPr/>
          </p:nvSpPr>
          <p:spPr>
            <a:xfrm>
              <a:off x="2133360" y="652932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752480" y="6529320"/>
              <a:ext cx="393840" cy="319320"/>
            </a:xfrm>
            <a:prstGeom prst="flowChartDelay">
              <a:avLst/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" name="logufop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657600" y="685800"/>
            <a:ext cx="219060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A ABORDAGEM PARA O PROBLEMA DE ALOCAÇÃO DE SALAS USANDO SIMULATED ANNEA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2640" y="48765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rge von Atzingen dos Re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olfo 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as Salla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4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752480" y="6529320"/>
            <a:ext cx="7391520" cy="319320"/>
            <a:chOff x="1752480" y="6529320"/>
            <a:chExt cx="7391520" cy="319320"/>
          </a:xfrm>
        </p:grpSpPr>
        <p:sp>
          <p:nvSpPr>
            <p:cNvPr id="144" name=""/>
            <p:cNvSpPr/>
            <p:nvPr/>
          </p:nvSpPr>
          <p:spPr>
            <a:xfrm>
              <a:off x="2133360" y="652932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752480" y="6529320"/>
              <a:ext cx="393840" cy="319320"/>
            </a:xfrm>
            <a:prstGeom prst="flowChartDelay">
              <a:avLst/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" name="logufop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657600" y="685800"/>
            <a:ext cx="219060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ões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2743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1752480"/>
            <a:ext cx="72392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pouco robu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xo tempo comput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ções viá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52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752480" y="6529320"/>
            <a:ext cx="7391520" cy="319320"/>
            <a:chOff x="1752480" y="6529320"/>
            <a:chExt cx="7391520" cy="319320"/>
          </a:xfrm>
        </p:grpSpPr>
        <p:sp>
          <p:nvSpPr>
            <p:cNvPr id="155" name=""/>
            <p:cNvSpPr/>
            <p:nvPr/>
          </p:nvSpPr>
          <p:spPr>
            <a:xfrm>
              <a:off x="2133360" y="652932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752480" y="6529320"/>
              <a:ext cx="393840" cy="319320"/>
            </a:xfrm>
            <a:prstGeom prst="flowChartDelay">
              <a:avLst/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7" name="logufop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657600" y="685800"/>
            <a:ext cx="2190600" cy="4572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ões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743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1371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ador de 2.0GHz e Memória RAM de 256M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1828800"/>
          <a:ext cx="9144000" cy="388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9144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64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752480" y="6529320"/>
            <a:ext cx="7391520" cy="319320"/>
            <a:chOff x="1752480" y="6529320"/>
            <a:chExt cx="7391520" cy="319320"/>
          </a:xfrm>
        </p:grpSpPr>
        <p:sp>
          <p:nvSpPr>
            <p:cNvPr id="167" name=""/>
            <p:cNvSpPr/>
            <p:nvPr/>
          </p:nvSpPr>
          <p:spPr>
            <a:xfrm>
              <a:off x="2133360" y="652932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752480" y="6529320"/>
              <a:ext cx="393840" cy="319320"/>
            </a:xfrm>
            <a:prstGeom prst="flowChartDelay">
              <a:avLst/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9" name="logufop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657600" y="685800"/>
            <a:ext cx="2190600" cy="4572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radecimento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2743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1752480"/>
            <a:ext cx="7239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 Universidade Federal de Ouro Pr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 Professor Marc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752480" y="6529320"/>
            <a:ext cx="7391520" cy="319320"/>
            <a:chOff x="1752480" y="6529320"/>
            <a:chExt cx="7391520" cy="319320"/>
          </a:xfrm>
        </p:grpSpPr>
        <p:sp>
          <p:nvSpPr>
            <p:cNvPr id="51" name=""/>
            <p:cNvSpPr/>
            <p:nvPr/>
          </p:nvSpPr>
          <p:spPr>
            <a:xfrm>
              <a:off x="2133360" y="652932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52480" y="6529320"/>
              <a:ext cx="393840" cy="319320"/>
            </a:xfrm>
            <a:prstGeom prst="flowChartDelay">
              <a:avLst/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logufop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657600" y="685800"/>
            <a:ext cx="219060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Problema de Alocação de Sa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2743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1905120"/>
            <a:ext cx="72392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las  previamente program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car essas aulas às sa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59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752480" y="6529320"/>
            <a:ext cx="7391520" cy="319320"/>
            <a:chOff x="1752480" y="6529320"/>
            <a:chExt cx="7391520" cy="319320"/>
          </a:xfrm>
        </p:grpSpPr>
        <p:sp>
          <p:nvSpPr>
            <p:cNvPr id="62" name=""/>
            <p:cNvSpPr/>
            <p:nvPr/>
          </p:nvSpPr>
          <p:spPr>
            <a:xfrm>
              <a:off x="2133360" y="652932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752480" y="6529320"/>
              <a:ext cx="393840" cy="319320"/>
            </a:xfrm>
            <a:prstGeom prst="flowChartDelay">
              <a:avLst/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logufop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657600" y="685800"/>
            <a:ext cx="2190600" cy="4572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ulated Annealing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2743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2133720"/>
            <a:ext cx="72392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cnica de busca local probabilís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ogia com a termodinâ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friamento de um conjunto de átomos aqu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70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752480" y="6529320"/>
            <a:ext cx="7391520" cy="319320"/>
            <a:chOff x="1752480" y="6529320"/>
            <a:chExt cx="7391520" cy="319320"/>
          </a:xfrm>
        </p:grpSpPr>
        <p:sp>
          <p:nvSpPr>
            <p:cNvPr id="73" name=""/>
            <p:cNvSpPr/>
            <p:nvPr/>
          </p:nvSpPr>
          <p:spPr>
            <a:xfrm>
              <a:off x="2133360" y="652932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752480" y="6529320"/>
              <a:ext cx="393840" cy="319320"/>
            </a:xfrm>
            <a:prstGeom prst="flowChartDelay">
              <a:avLst/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logufop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657600" y="685800"/>
            <a:ext cx="2190600" cy="4572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2743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ulated Annealing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2133720"/>
            <a:ext cx="72392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ça com uma solução inicial qualq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imento principal: Loop que gera aleatoriamente um vizin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ta é a variação da função 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8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752480" y="6529320"/>
            <a:ext cx="7391520" cy="319320"/>
            <a:chOff x="1752480" y="6529320"/>
            <a:chExt cx="7391520" cy="319320"/>
          </a:xfrm>
        </p:grpSpPr>
        <p:sp>
          <p:nvSpPr>
            <p:cNvPr id="84" name=""/>
            <p:cNvSpPr/>
            <p:nvPr/>
          </p:nvSpPr>
          <p:spPr>
            <a:xfrm>
              <a:off x="2133360" y="652932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752480" y="6529320"/>
              <a:ext cx="393840" cy="319320"/>
            </a:xfrm>
            <a:prstGeom prst="flowChartDelay">
              <a:avLst/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logufop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657600" y="685800"/>
            <a:ext cx="2190600" cy="457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19320" y="2743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ulated Annealing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lta = f(s) – f(s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 delta&lt; 0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movimento é ace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 delta&gt; 0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movimento aceito  com uma probabilidade e</a:t>
            </a:r>
            <a:r>
              <a:rPr b="0" lang="pt-BR" sz="3200" spc="-1" strike="noStrike" baseline="30000">
                <a:solidFill>
                  <a:srgbClr val="000000"/>
                </a:solidFill>
                <a:latin typeface="Times New Roman"/>
              </a:rPr>
              <a:t>(-delta/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 é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9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752480" y="6529320"/>
            <a:ext cx="7391520" cy="319320"/>
            <a:chOff x="1752480" y="6529320"/>
            <a:chExt cx="7391520" cy="319320"/>
          </a:xfrm>
        </p:grpSpPr>
        <p:sp>
          <p:nvSpPr>
            <p:cNvPr id="94" name=""/>
            <p:cNvSpPr/>
            <p:nvPr/>
          </p:nvSpPr>
          <p:spPr>
            <a:xfrm>
              <a:off x="2133360" y="652932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752480" y="6529320"/>
              <a:ext cx="393840" cy="319320"/>
            </a:xfrm>
            <a:prstGeom prst="flowChartDelay">
              <a:avLst/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logufop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657600" y="685800"/>
            <a:ext cx="2190600" cy="4572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agem do Problema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743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385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7816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03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752480" y="6529320"/>
            <a:ext cx="7391520" cy="319320"/>
            <a:chOff x="1752480" y="6529320"/>
            <a:chExt cx="7391520" cy="319320"/>
          </a:xfrm>
        </p:grpSpPr>
        <p:sp>
          <p:nvSpPr>
            <p:cNvPr id="106" name=""/>
            <p:cNvSpPr/>
            <p:nvPr/>
          </p:nvSpPr>
          <p:spPr>
            <a:xfrm>
              <a:off x="2133360" y="652932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752480" y="6529320"/>
              <a:ext cx="393840" cy="319320"/>
            </a:xfrm>
            <a:prstGeom prst="flowChartDelay">
              <a:avLst/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logufop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657600" y="685800"/>
            <a:ext cx="2190600" cy="4572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ução inicial aleató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743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752480"/>
            <a:ext cx="72392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atoriamente escolhe uma a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atoriamente escolhe uma s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 sala estiver vazia, sala recebe a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ão aleatoriamente escolhe outra sa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752480" y="6529320"/>
            <a:ext cx="7391520" cy="319320"/>
            <a:chOff x="1752480" y="6529320"/>
            <a:chExt cx="7391520" cy="319320"/>
          </a:xfrm>
        </p:grpSpPr>
        <p:sp>
          <p:nvSpPr>
            <p:cNvPr id="117" name=""/>
            <p:cNvSpPr/>
            <p:nvPr/>
          </p:nvSpPr>
          <p:spPr>
            <a:xfrm>
              <a:off x="2133360" y="652932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752480" y="6529320"/>
              <a:ext cx="393840" cy="319320"/>
            </a:xfrm>
            <a:prstGeom prst="flowChartDelay">
              <a:avLst/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logufop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657600" y="685800"/>
            <a:ext cx="2190600" cy="4572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zinho gerado aleatoriam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2743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8116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85345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752480" y="6529320"/>
            <a:ext cx="7391520" cy="319320"/>
            <a:chOff x="1752480" y="6529320"/>
            <a:chExt cx="7391520" cy="319320"/>
          </a:xfrm>
        </p:grpSpPr>
        <p:sp>
          <p:nvSpPr>
            <p:cNvPr id="129" name=""/>
            <p:cNvSpPr/>
            <p:nvPr/>
          </p:nvSpPr>
          <p:spPr>
            <a:xfrm>
              <a:off x="2133360" y="652932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752480" y="6529320"/>
              <a:ext cx="393840" cy="319320"/>
            </a:xfrm>
            <a:prstGeom prst="flowChartDelay">
              <a:avLst/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logufop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657600" y="685800"/>
            <a:ext cx="219060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ção Objetivo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809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atório do excesso de alunos * p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04920" y="1219320"/>
                <a:ext cx="861048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41004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352680" y="2666880"/>
                <a:ext cx="275760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352680" y="4343400"/>
                <a:ext cx="28195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219320" y="54864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atório da ociosidade de lugares * p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3T19:00:34Z</dcterms:created>
  <dc:creator>x</dc:creator>
  <dc:description/>
  <dc:language>en-US</dc:language>
  <cp:lastModifiedBy>Jorge von Atzingen dos Reis</cp:lastModifiedBy>
  <dcterms:modified xsi:type="dcterms:W3CDTF">2003-12-10T16:53:02Z</dcterms:modified>
  <cp:revision>36</cp:revision>
  <dc:subject/>
  <dc:title>Apresentação do PowerPoint</dc:title>
</cp:coreProperties>
</file>